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A156-47DB-43DC-A1BB-4754E7E2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D0C8-4674-4D55-A96F-CE415EC4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07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433B-CF56-4197-A779-BDCDF083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60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37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48199-0509-4FA2-B342-C98004FE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F0886-EB3C-4570-97C2-3E4603BEC7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6AC7E-9A2C-49B7-A0A0-CC2876FA59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E1D28-4F98-444B-AA14-E9FE461FA9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2CDCA-264F-472E-8925-233DB51C97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D5E06-00D7-481C-9733-613F742AEB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590560" y="152280"/>
            <a:ext cx="609588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8B40D-904C-4A98-A65D-33D1F18CD7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D8DF3-EDA4-46BB-8825-BAFA3D563F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E8B7-AFF3-4C71-ACED-6E28F538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62A36-A512-42CD-A94E-9005AEF5F5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0FA14-D083-4AC6-9409-5EA67E45AA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9B550-1CAE-47F7-B073-12670B5F72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EA5BB-C478-46DD-960D-FE4ED1096E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71576-1ACD-4134-A288-BF071E4167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2155-7A20-4DDF-9984-4DD484D0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633A-4414-4A57-9D7C-57C2381D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62B8-CC2B-4725-AF56-99CCA195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90560" y="152280"/>
            <a:ext cx="609588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31EC-4FA5-4C08-B4F8-D0FFC0D1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B32F-0E1F-446E-BE74-DA6FDD4B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07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1ECE-AA6D-42FE-A112-9B8DCB1A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A988-0D48-4095-AFDE-266AA2D3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71600" y="0"/>
            <a:ext cx="76320" cy="6858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094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5257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0769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A9A1-E5A2-4F2B-AC86-FFCB0ACA721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184400">
            <a:off x="-2187000" y="2866320"/>
            <a:ext cx="49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Indagine Nazionale 2005 – somministrazione informa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6320" y="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 rot="16200000">
            <a:off x="7857720" y="5552640"/>
            <a:ext cx="217980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Paola Muzzioli 3 Dicembre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35000" y="76320"/>
            <a:ext cx="9009000" cy="1052280"/>
            <a:chOff x="135000" y="76320"/>
            <a:chExt cx="9009000" cy="1052280"/>
          </a:xfrm>
        </p:grpSpPr>
        <p:grpSp>
          <p:nvGrpSpPr>
            <p:cNvPr id="48" name=""/>
            <p:cNvGrpSpPr/>
            <p:nvPr/>
          </p:nvGrpSpPr>
          <p:grpSpPr>
            <a:xfrm>
              <a:off x="425520" y="183960"/>
              <a:ext cx="711360" cy="474480"/>
              <a:chOff x="425520" y="183960"/>
              <a:chExt cx="711360" cy="474480"/>
            </a:xfrm>
          </p:grpSpPr>
          <p:sp>
            <p:nvSpPr>
              <p:cNvPr id="49" name=""/>
              <p:cNvSpPr/>
              <p:nvPr/>
            </p:nvSpPr>
            <p:spPr>
              <a:xfrm>
                <a:off x="425520" y="1839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08560" y="1839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549360" y="606240"/>
              <a:ext cx="737640" cy="474480"/>
              <a:chOff x="549360" y="606240"/>
              <a:chExt cx="737640" cy="474480"/>
            </a:xfrm>
          </p:grpSpPr>
          <p:sp>
            <p:nvSpPr>
              <p:cNvPr id="52" name=""/>
              <p:cNvSpPr/>
              <p:nvPr/>
            </p:nvSpPr>
            <p:spPr>
              <a:xfrm>
                <a:off x="549360" y="6062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8000" y="6062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135000" y="5331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70040" y="763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51080" y="8974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4"/>
          </p:nvPr>
        </p:nvSpPr>
        <p:spPr>
          <a:xfrm>
            <a:off x="5257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5"/>
          </p:nvPr>
        </p:nvSpPr>
        <p:spPr>
          <a:xfrm>
            <a:off x="822960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BB48-0C63-4FBA-92EC-6B1110300148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89532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1371600"/>
            <a:ext cx="6553080" cy="499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ahoma"/>
              </a:rPr>
              <a:t>Valutazione Na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ahoma"/>
              </a:rPr>
              <a:t>Indagine Nazionale 2004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ahoma"/>
              </a:rPr>
              <a:t>Seminario referenti reg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software per la somministrazione infor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ahoma"/>
              </a:rPr>
              <a:t>INVal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Paola Muzzio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Frascati, 3 Dicembr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 installazion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-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325760" y="-24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9601" t="31765" r="30401" b="31325"/>
          <a:stretch/>
        </p:blipFill>
        <p:spPr>
          <a:xfrm>
            <a:off x="611280" y="76500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30059" t="32078" r="31063" b="32400"/>
          <a:stretch/>
        </p:blipFill>
        <p:spPr>
          <a:xfrm>
            <a:off x="4788000" y="692280"/>
            <a:ext cx="3752640" cy="2743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30697" t="31292" r="31098" b="32377"/>
          <a:stretch/>
        </p:blipFill>
        <p:spPr>
          <a:xfrm>
            <a:off x="4932360" y="4076640"/>
            <a:ext cx="3495600" cy="2667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284720" y="1916280"/>
            <a:ext cx="431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7640" y="3573360"/>
            <a:ext cx="6494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 configurazion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4325760" y="-24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604800"/>
            <a:ext cx="828036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Posizionare il </a:t>
            </a:r>
            <a:r>
              <a:rPr b="0" lang="it-IT" sz="3000" spc="-1" strike="noStrike">
                <a:solidFill>
                  <a:srgbClr val="ff0000"/>
                </a:solidFill>
                <a:latin typeface="Tahoma"/>
              </a:rPr>
              <a:t>file di configurazi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9900"/>
                </a:solidFill>
                <a:latin typeface="Tahoma"/>
              </a:rPr>
              <a:t>P2Gclient.confi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e il file di</a:t>
            </a:r>
            <a:r>
              <a:rPr b="0" lang="it-IT" sz="3000" spc="-1" strike="noStrike">
                <a:solidFill>
                  <a:srgbClr val="ff0000"/>
                </a:solidFill>
                <a:latin typeface="Tahoma"/>
              </a:rPr>
              <a:t> aggiornam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9900"/>
                </a:solidFill>
                <a:latin typeface="Tahoma"/>
              </a:rPr>
              <a:t>presenter.ex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nella cartell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Perception3\</a:t>
            </a: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P2G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508640"/>
            <a:ext cx="8425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stituire i file già presenti nella car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il file di configurazione è stato posizionato correttamente, dopo aver avviato il programma Perception ToGo verrà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ancellat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è necessario pertanto mantenerne una copia per eventuali successive install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 eseguire il programm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-1182600" y="-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54103" r="55783" b="0"/>
          <a:stretch/>
        </p:blipFill>
        <p:spPr>
          <a:xfrm>
            <a:off x="755640" y="765000"/>
            <a:ext cx="4686480" cy="3876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32512" t="39789" r="35199" b="33625"/>
          <a:stretch/>
        </p:blipFill>
        <p:spPr>
          <a:xfrm>
            <a:off x="4502160" y="3770280"/>
            <a:ext cx="4246560" cy="2798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5651640" y="907920"/>
            <a:ext cx="309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 di svolgere le prove o i questionari, è necessario accertarsi che l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l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l PC siano es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 Sincronizzazion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-1182600" y="-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9079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NCRONIZZAZIO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è l’operazione attraverso la quale avviene lo scambio di informazioni tra il Server INValSI e il PC dove si sono svolte le 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95280" y="2133720"/>
            <a:ext cx="8569440" cy="2519280"/>
            <a:chOff x="395280" y="2133720"/>
            <a:chExt cx="8569440" cy="2519280"/>
          </a:xfrm>
        </p:grpSpPr>
        <p:sp>
          <p:nvSpPr>
            <p:cNvPr id="180" name=""/>
            <p:cNvSpPr/>
            <p:nvPr/>
          </p:nvSpPr>
          <p:spPr>
            <a:xfrm>
              <a:off x="395280" y="2133720"/>
              <a:ext cx="8569440" cy="2519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8360" y="2602080"/>
              <a:ext cx="3456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vvio del program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360" y="3789360"/>
              <a:ext cx="35272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hiusura del program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59280" y="2276640"/>
              <a:ext cx="3889440" cy="119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endere visione del materiale a disposizione per l’ut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9280" y="3573360"/>
              <a:ext cx="38894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viare al Server i risultati delle prove compi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40360" y="2421000"/>
              <a:ext cx="647640" cy="863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40360" y="3573360"/>
              <a:ext cx="647640" cy="863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95280" y="4797360"/>
            <a:ext cx="8424720" cy="230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Quando effettuare la sincronizzazi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ndo saranno rese disponibili le 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 termine di tutte le somministrazioni per l’invio di TUTTI i risultati per ogni login e password utilizzata sul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il programm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765000"/>
            <a:ext cx="1296720" cy="71928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2133720"/>
            <a:ext cx="1871640" cy="865080"/>
          </a:xfrm>
          <a:prstGeom prst="flowChartDecision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ronizz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9" idx="2"/>
            <a:endCxn id="190" idx="0"/>
          </p:cNvCxnSpPr>
          <p:nvPr/>
        </p:nvCxnSpPr>
        <p:spPr>
          <a:xfrm>
            <a:off x="1260360" y="1484280"/>
            <a:ext cx="43272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419640" y="1916280"/>
            <a:ext cx="1871640" cy="8632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tivare la spu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lla casella bian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3789360"/>
            <a:ext cx="2089080" cy="1081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 attivare la spu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lla casella bian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2852640"/>
            <a:ext cx="1584360" cy="7207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nco nu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3933720"/>
            <a:ext cx="1656000" cy="79236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zion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a da apr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0" idx="2"/>
            <a:endCxn id="193" idx="0"/>
          </p:cNvCxnSpPr>
          <p:nvPr/>
        </p:nvCxnSpPr>
        <p:spPr>
          <a:xfrm>
            <a:off x="1692000" y="2998800"/>
            <a:ext cx="3708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3" idx="3"/>
            <a:endCxn id="198" idx="1"/>
          </p:cNvCxnSpPr>
          <p:nvPr/>
        </p:nvCxnSpPr>
        <p:spPr>
          <a:xfrm>
            <a:off x="2773440" y="4330440"/>
            <a:ext cx="50400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8" idx="3"/>
            <a:endCxn id="195" idx="1"/>
          </p:cNvCxnSpPr>
          <p:nvPr/>
        </p:nvCxnSpPr>
        <p:spPr>
          <a:xfrm flipV="1">
            <a:off x="5292360" y="4330080"/>
            <a:ext cx="6483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  <a:endCxn id="192" idx="1"/>
          </p:cNvCxnSpPr>
          <p:nvPr/>
        </p:nvCxnSpPr>
        <p:spPr>
          <a:xfrm flipV="1">
            <a:off x="2626920" y="2347200"/>
            <a:ext cx="793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2" idx="3"/>
            <a:endCxn id="194" idx="0"/>
          </p:cNvCxnSpPr>
          <p:nvPr/>
        </p:nvCxnSpPr>
        <p:spPr>
          <a:xfrm>
            <a:off x="5291280" y="2347920"/>
            <a:ext cx="10101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4" idx="2"/>
            <a:endCxn id="195" idx="0"/>
          </p:cNvCxnSpPr>
          <p:nvPr/>
        </p:nvCxnSpPr>
        <p:spPr>
          <a:xfrm>
            <a:off x="6300360" y="3573000"/>
            <a:ext cx="469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635280" y="5877000"/>
            <a:ext cx="1297080" cy="71892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60640"/>
            <a:ext cx="2016000" cy="1009800"/>
          </a:xfrm>
          <a:prstGeom prst="flowChartDecision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nco pr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8" idx="2"/>
            <a:endCxn id="203" idx="0"/>
          </p:cNvCxnSpPr>
          <p:nvPr/>
        </p:nvCxnSpPr>
        <p:spPr>
          <a:xfrm flipV="1" rot="10800000">
            <a:off x="4284000" y="4870080"/>
            <a:ext cx="1080" cy="1007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1042920" y="3141720"/>
            <a:ext cx="57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1989000"/>
            <a:ext cx="50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95" idx="3"/>
            <a:endCxn id="190" idx="0"/>
          </p:cNvCxnSpPr>
          <p:nvPr/>
        </p:nvCxnSpPr>
        <p:spPr>
          <a:xfrm flipH="1" flipV="1">
            <a:off x="1692000" y="2133000"/>
            <a:ext cx="5904720" cy="2197800"/>
          </a:xfrm>
          <a:prstGeom prst="bentConnector4">
            <a:avLst>
              <a:gd name="adj1" fmla="val -3865"/>
              <a:gd name="adj2" fmla="val 1231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 problemi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12682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rrori di sincronizzazione o apertura della pr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80000" y="1989000"/>
            <a:ext cx="136836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2924280"/>
            <a:ext cx="748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trollare che login e password inseriti siano corr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sizionare nuovamente il file di configurazione nella sottocartella p2gclient e verificare che venga cancellato dopo l’avvio del progr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 problemi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1187280" y="12682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mpi di installazione troppo lung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1989000"/>
            <a:ext cx="136836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2924280"/>
            <a:ext cx="748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llare i software aggiuntivi dal computer locale e non dalla 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iornare il software e l’hardware dispon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 problemi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1125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rrore durante la sincronizzazione per l’invio dei 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1628640"/>
            <a:ext cx="136836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2492280"/>
            <a:ext cx="777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care che l’errore si presenta su tutte le mac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almeno 1 macchina effettua correttamente la sincronizzazione, copiare il database con le risposte dal PC che non funziona sul PC funzionante ed avviare la sincronizzazione (ripetere per tutti i database crea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558972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:\perception3\P2Gclient\databases\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perceptionanswer.m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Prove d’apprendimento: modalità di somministrazion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981000"/>
            <a:ext cx="7848360" cy="5488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a somministrazione informatica prevede due modalità di compilaz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modalità </a:t>
            </a:r>
            <a:r>
              <a:rPr b="1" i="1" lang="it-IT" sz="2200" spc="-1" strike="noStrike">
                <a:solidFill>
                  <a:srgbClr val="000000"/>
                </a:solidFill>
                <a:latin typeface="Tahoma"/>
              </a:rPr>
              <a:t>off-lin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compilazione delle prove da parte degli studenti viene gestita localmente. Le Istituzioni scolastiche utilizzano uno specifico software, che permette di poter effettuare le prove senza un collegamento on-line att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modalità </a:t>
            </a:r>
            <a:r>
              <a:rPr b="1" i="1" lang="it-IT" sz="2200" spc="-1" strike="noStrike">
                <a:solidFill>
                  <a:srgbClr val="000000"/>
                </a:solidFill>
                <a:latin typeface="Tahoma"/>
              </a:rPr>
              <a:t>on-lin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compilazione delle prove da parte degli studenti avviene con collegamento attivo al sito dell’INValSI. La modalità è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riservat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lle Istituzioni che non hanno attrezzature informatiche compatibili con il software off-line (ad esempio sistemi Ap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omministrazione informatica - modalità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ff-lin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695240"/>
            <a:ext cx="7775640" cy="481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quisiti per l’instal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istema operativ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eve essere: Windows 98 second edition, Windows NT (Service Pack 6 o 6a), Windows 2000 (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n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evono essere installati il Service Pack 2 o 4), Windows ME o Windows X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ve essere presente una versione di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nternet Explorer 5.01 o superior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iene richiesta la presenza dell’applicativo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.NE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vono essere installati i driver ODBC contenuti nel pacchetto Microsoft Data Access Components (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MDAC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2.5 Service Pack 2 o superior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765000"/>
            <a:ext cx="75596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33cc"/>
                </a:solidFill>
                <a:latin typeface="Tahoma"/>
              </a:rPr>
              <a:t>Perception ToGo Client</a:t>
            </a: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stribuito da Mediadirect srl per Question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Verifica requisiti del sistem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643280" y="1125360"/>
            <a:ext cx="3672000" cy="4843800"/>
            <a:chOff x="4643280" y="1125360"/>
            <a:chExt cx="3672000" cy="4843800"/>
          </a:xfrm>
        </p:grpSpPr>
        <p:sp>
          <p:nvSpPr>
            <p:cNvPr id="105" name=""/>
            <p:cNvSpPr/>
            <p:nvPr/>
          </p:nvSpPr>
          <p:spPr>
            <a:xfrm>
              <a:off x="4643280" y="1125360"/>
              <a:ext cx="3672000" cy="417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52320" y="1306440"/>
              <a:ext cx="2655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ifica manua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83280" y="1989000"/>
              <a:ext cx="719280" cy="935280"/>
            </a:xfrm>
            <a:prstGeom prst="downArrow">
              <a:avLst>
                <a:gd name="adj1" fmla="val 50000"/>
                <a:gd name="adj2" fmla="val 3250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48360" y="3284640"/>
              <a:ext cx="30240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istema ope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ternet Explo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D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55640" y="1125360"/>
            <a:ext cx="3672000" cy="4175280"/>
            <a:chOff x="755640" y="1125360"/>
            <a:chExt cx="3672000" cy="4175280"/>
          </a:xfrm>
        </p:grpSpPr>
        <p:sp>
          <p:nvSpPr>
            <p:cNvPr id="110" name=""/>
            <p:cNvSpPr/>
            <p:nvPr/>
          </p:nvSpPr>
          <p:spPr>
            <a:xfrm>
              <a:off x="755640" y="1125360"/>
              <a:ext cx="3672000" cy="417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38600" y="1341360"/>
              <a:ext cx="3015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ifica automatic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3357720"/>
              <a:ext cx="100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68360" y="1989000"/>
              <a:ext cx="719280" cy="935280"/>
            </a:xfrm>
            <a:prstGeom prst="downArrow">
              <a:avLst>
                <a:gd name="adj1" fmla="val 50000"/>
                <a:gd name="adj2" fmla="val 3250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CD installazion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7832" t="13081" r="10953" b="32076"/>
          <a:stretch/>
        </p:blipFill>
        <p:spPr>
          <a:xfrm>
            <a:off x="1258920" y="1125360"/>
            <a:ext cx="720072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Verifica MDAC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3800520" cy="275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362400" cy="2047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372360" y="5084640"/>
            <a:ext cx="1628640" cy="962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3800" y="1773360"/>
            <a:ext cx="43200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3429000"/>
            <a:ext cx="647640" cy="1368360"/>
          </a:xfrm>
          <a:prstGeom prst="downArrow">
            <a:avLst>
              <a:gd name="adj1" fmla="val 50000"/>
              <a:gd name="adj2" fmla="val 5282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Verifica MDAC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256360" cy="3345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79640" y="765000"/>
            <a:ext cx="511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eguire il programma cc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56000" y="5084640"/>
            <a:ext cx="3671640" cy="1638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95640" y="4724280"/>
            <a:ext cx="863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 installazione .NET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-77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11280" y="765000"/>
            <a:ext cx="4321080" cy="5832720"/>
            <a:chOff x="611280" y="765000"/>
            <a:chExt cx="4321080" cy="5832720"/>
          </a:xfrm>
        </p:grpSpPr>
        <p:grpSp>
          <p:nvGrpSpPr>
            <p:cNvPr id="130" name=""/>
            <p:cNvGrpSpPr/>
            <p:nvPr/>
          </p:nvGrpSpPr>
          <p:grpSpPr>
            <a:xfrm>
              <a:off x="611280" y="765000"/>
              <a:ext cx="4176720" cy="5832720"/>
              <a:chOff x="611280" y="765000"/>
              <a:chExt cx="4176720" cy="5832720"/>
            </a:xfrm>
          </p:grpSpPr>
          <p:sp>
            <p:nvSpPr>
              <p:cNvPr id="131" name=""/>
              <p:cNvSpPr/>
              <p:nvPr/>
            </p:nvSpPr>
            <p:spPr>
              <a:xfrm>
                <a:off x="611280" y="765000"/>
                <a:ext cx="4176720" cy="583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2" name="" descr=""/>
              <p:cNvPicPr/>
              <p:nvPr/>
            </p:nvPicPr>
            <p:blipFill>
              <a:blip r:embed="rId1"/>
              <a:srcRect l="35952" t="45325" r="35696" b="43594"/>
              <a:stretch/>
            </p:blipFill>
            <p:spPr>
              <a:xfrm>
                <a:off x="755640" y="1374840"/>
                <a:ext cx="3781440" cy="119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"/>
              <a:srcRect l="31760" t="33577" r="32197" b="35212"/>
              <a:stretch/>
            </p:blipFill>
            <p:spPr>
              <a:xfrm>
                <a:off x="1187280" y="3027240"/>
                <a:ext cx="2880000" cy="198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3"/>
              <a:srcRect l="35887" t="42432" r="35436" b="45798"/>
              <a:stretch/>
            </p:blipFill>
            <p:spPr>
              <a:xfrm>
                <a:off x="1044720" y="5403960"/>
                <a:ext cx="33112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2340000" y="5086440"/>
                <a:ext cx="647640" cy="2872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40000" y="2637000"/>
                <a:ext cx="647640" cy="2872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620720" y="800280"/>
              <a:ext cx="33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Installazione .N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932360" y="765000"/>
            <a:ext cx="3887640" cy="5977080"/>
            <a:chOff x="4932360" y="765000"/>
            <a:chExt cx="3887640" cy="5977080"/>
          </a:xfrm>
        </p:grpSpPr>
        <p:sp>
          <p:nvSpPr>
            <p:cNvPr id="139" name=""/>
            <p:cNvSpPr/>
            <p:nvPr/>
          </p:nvSpPr>
          <p:spPr>
            <a:xfrm>
              <a:off x="4932360" y="765000"/>
              <a:ext cx="3887640" cy="597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5364000" y="1413000"/>
              <a:ext cx="288000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5364000" y="3284640"/>
              <a:ext cx="2953080" cy="16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6"/>
            <a:stretch/>
          </p:blipFill>
          <p:spPr>
            <a:xfrm>
              <a:off x="5510160" y="5570640"/>
              <a:ext cx="280692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516720" y="2852640"/>
              <a:ext cx="64764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720" y="5229360"/>
              <a:ext cx="64764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19640" y="836640"/>
              <a:ext cx="331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Installazione Service Pack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09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Perception ToGo –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 installazione ToGo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9496" t="41476" r="39100" b="44248"/>
          <a:stretch/>
        </p:blipFill>
        <p:spPr>
          <a:xfrm>
            <a:off x="1187280" y="1879560"/>
            <a:ext cx="2552760" cy="1333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11280" y="836640"/>
            <a:ext cx="5976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eguire il programm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2gclient340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140360" y="2060640"/>
            <a:ext cx="2232000" cy="936720"/>
            <a:chOff x="4140360" y="2060640"/>
            <a:chExt cx="2232000" cy="936720"/>
          </a:xfrm>
        </p:grpSpPr>
        <p:sp>
          <p:nvSpPr>
            <p:cNvPr id="150" name=""/>
            <p:cNvSpPr/>
            <p:nvPr/>
          </p:nvSpPr>
          <p:spPr>
            <a:xfrm>
              <a:off x="4140360" y="2060640"/>
              <a:ext cx="2232000" cy="936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1760" y="2060640"/>
              <a:ext cx="172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ahoma"/>
                </a:rPr>
                <a:t>Passwor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ahoma"/>
                </a:rPr>
                <a:t>p2g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0" y="-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29468" t="31137" r="32040" b="31403"/>
          <a:stretch/>
        </p:blipFill>
        <p:spPr>
          <a:xfrm>
            <a:off x="826920" y="3772080"/>
            <a:ext cx="3562560" cy="2752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29997" t="31222" r="30401" b="31920"/>
          <a:stretch/>
        </p:blipFill>
        <p:spPr>
          <a:xfrm>
            <a:off x="5003640" y="3860640"/>
            <a:ext cx="3384720" cy="2521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35280" y="1413000"/>
            <a:ext cx="9349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3284640"/>
            <a:ext cx="935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4653000"/>
            <a:ext cx="431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0:46:56Z</dcterms:created>
  <dc:creator>RMelchiori</dc:creator>
  <dc:description/>
  <dc:language>en-US</dc:language>
  <cp:lastModifiedBy>bullo</cp:lastModifiedBy>
  <dcterms:modified xsi:type="dcterms:W3CDTF">2005-01-20T11:10:50Z</dcterms:modified>
  <cp:revision>259</cp:revision>
  <dc:subject/>
  <dc:title>Presentazione di PowerPoint</dc:title>
</cp:coreProperties>
</file>